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0015-53A9-4C75-9BB1-AC9D3D58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F4B3-7DC4-4D12-9F8A-71CE4054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6C64-7100-4A54-B274-DF5CDAD4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475F-A319-413E-93F4-167FCD910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EDF67-A461-44F9-8347-1038915F2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9486-B525-468A-9E18-584867E47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3066-FC46-4C39-836B-8E3A5DEA3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B085-15FA-402D-8952-97651B368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4B55-5D52-4BD0-B660-A935FF5F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AF36-6483-446E-A331-37D7DA74C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10B89-1908-47C0-866B-B997755F7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8CD-CE8C-4F5A-ADE6-DBE578DC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8903-002A-4C34-963F-25B5A31E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2D72-3B9A-440A-8710-DF08D96D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8580E-9F36-49BD-8A75-AF7E9438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344A5-BDC1-4ADC-AC55-C21E3ACB6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B6B9-F153-4BB2-A3A9-7F5BFD34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12FC9-640C-419D-8B89-2DD0624EE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823-5A14-4BCF-94FD-CA0E695B6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51EB-E097-4071-81A0-13C558FC7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3BB-C449-4D6B-986B-9019CD1E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D60C-23D4-452C-8C9F-3B30AA9AC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7B93-CDBA-43DE-8F75-B4AC2572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4024-1C25-4544-AD06-AA6E230B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D630-7A41-4EDC-AA22-3F9E80C8464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3480"/>
              <a:chOff x="635040" y="534600"/>
              <a:chExt cx="8077320" cy="30348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724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4AED9-1259-4E50-84F2-0DD1396FB20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Object 4" descr=""/>
          <p:cNvPicPr/>
          <p:nvPr/>
        </p:nvPicPr>
        <p:blipFill>
          <a:blip r:embed="rId1"/>
          <a:stretch/>
        </p:blipFill>
        <p:spPr>
          <a:xfrm>
            <a:off x="825480" y="1577880"/>
            <a:ext cx="5118120" cy="4959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</a:t>
            </a:r>
            <a:r>
              <a:rPr b="1" lang="en-US" sz="1400" spc="-1" strike="noStrike">
                <a:solidFill>
                  <a:srgbClr val="330033"/>
                </a:solidFill>
                <a:latin typeface="Times New Roman"/>
              </a:rPr>
              <a:t>2</a:t>
            </a: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1 ГОД И ПЛАНОВЫЙ ПЕРИОД 2022-2023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21-01-29T05:53:42Z</dcterms:modified>
  <cp:revision>46</cp:revision>
  <dc:subject/>
  <dc:title>Структура собственных доходов на 2016 год бюджета Дальнереченского городского округа</dc:title>
</cp:coreProperties>
</file>